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F1B-7998-4BB6-B0AD-3C2D62EA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B9F-96E6-4B8C-AE65-F9332AF6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DFF-68C5-45A8-B7B1-2ACEB6A6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D90-489E-47C4-922F-3C26C82B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7277-6437-45DA-ACE4-114B8265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F6FA-E80C-437D-8B6E-DA1D6ABB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0D38-F3AA-4E97-BDEB-C39A1BEA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40C0-BD21-4B15-945F-05F7952A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E304-484B-44CA-96EF-AF122E5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06D0-CAC3-47D9-954D-F7D70F90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F9DB-6267-440F-8E90-0EF8133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327-B39B-4547-B050-0EDDE14D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E200-BCF5-454B-9CDA-4BDDFDB7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343B-3319-4CD6-940F-30A2004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DB62-DCF0-4B83-8F1A-E68603A6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1B76-486D-459B-BC53-85D9D67B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3481-8FAF-4287-9CC1-C4B6FB86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0E5-783A-409A-ADF3-40B3DBF5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B35-FA7C-4B73-92B5-C4716DD0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3F6-E530-4032-8A78-113D371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548-6389-41C6-AED6-57614BCE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855-346E-4FA7-9602-28A6591D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5F9-8BE4-4FEF-855F-ED704C69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290-FA30-4D45-B9D1-4832309C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54B7-1448-410E-BED4-DA47B84495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A3D2-71D3-44D6-B05D-83C57CFBDF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ratic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ng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W:  Monda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Contracts due Mon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resourc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quotes/responses each +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ass Practice: Researc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. 23 of LA Y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. 614-615 in Literature Books, create the Works Cited E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thesis below, find 3 quotes that support the thesis.  Create a response journal for the qu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is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 order to prevent teen pregnancy, adults should place an emphasis on sex education and the reality behind being a teen m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own 3 questions you have for Gabby about her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ny sources that Gabrielle refers to in her paper.  How did these sources support her s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ocratic Dicuss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en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de Reflection 5/13/10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Grad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Grad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How much did it increase or decrease b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grade increase (be realis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 Obstacle: 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(Test, quizzes, homework, classwork, presen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es for over com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Come to Ms. Tucker’s class after school or during 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Plan successful study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Make study games and us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ud Assignment:  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I am proud of my HW Packet because I completed all the assignments and received a 10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5:05:05Z</dcterms:created>
  <dc:creator>Tucker</dc:creator>
  <dc:description/>
  <dc:language>en-US</dc:language>
  <cp:lastModifiedBy>Tucker</cp:lastModifiedBy>
  <dcterms:modified xsi:type="dcterms:W3CDTF">2010-05-13T20:28:51Z</dcterms:modified>
  <cp:revision>2</cp:revision>
  <dc:subject/>
  <dc:title>Slide 1</dc:title>
</cp:coreProperties>
</file>